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40E-C772-4507-93A6-964F3504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BC3-3521-41C9-9DFF-49DCC5F8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D0E-78DC-41DA-A1B8-00368606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C0D-775A-4B97-9DCA-5A2A5BC0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27B-CE84-42E3-9E9F-30D675B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C8A-029E-4A54-8DF8-A4554F40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A74-4764-4245-8EC4-9393B72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8BC-AC84-4251-A146-577E7AF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0A2-2A43-4B7A-9D70-ACDDC35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4F7-DD22-449C-AD78-6F298AC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127-D463-4A24-B913-B32A88A8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D2F-0213-4327-B2CE-AADFF16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878-0809-4E7D-8C45-F2FB8B57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Ambitiou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t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imple-Minde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858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ike Oldfield - Tubular Bells Part One.mp3" descr=""/>
          <p:cNvPicPr/>
          <p:nvPr/>
        </p:nvPicPr>
        <p:blipFill>
          <a:blip r:embed="rId1"/>
          <a:stretch/>
        </p:blipFill>
        <p:spPr>
          <a:xfrm>
            <a:off x="763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tumblr_mapsx60Y7W1r8iv71o1_500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shock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afety-in-dark-parking-lo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duped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ar gem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pologize…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gemma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t all d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_0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Dream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5867619144_abc5efe4a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Dreams became 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lfa-romeo-mito-rendering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lso he did not know about 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ld Lov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ro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kybar_crow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1:34:45Z</dcterms:created>
  <dc:creator>A.ASHTARI</dc:creator>
  <dc:description/>
  <dc:language>en-US</dc:language>
  <cp:lastModifiedBy>ms</cp:lastModifiedBy>
  <dcterms:modified xsi:type="dcterms:W3CDTF">2012-10-03T07:32:59Z</dcterms:modified>
  <cp:revision>11</cp:revision>
  <dc:subject/>
  <dc:title>He was Ambitious But Simple-Minded </dc:title>
</cp:coreProperties>
</file>